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C9A-6745-4BB4-8358-5D2B0EC0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6EC-A980-4EDD-9CD1-EDD9DFE1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B77-D64A-478F-900A-5CA60639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FF2-7CBD-4E14-B308-9F064AB9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814-29CF-45E1-9013-92EA63E8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C25-4E87-443C-B753-866106AE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4A7-63E3-4F87-88F7-257CB38C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6C4-EBDC-4E99-A3AD-337CA8FE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A20-870A-41E4-8C85-73D63900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38E-630F-4F02-80BD-89C8981D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E0B-7AD1-4CD7-ADB4-48ECF0E6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288-6970-433B-B152-87D2D927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7E59-186A-472D-A14D-80EEF3865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125360"/>
            <a:ext cx="763272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EOGRAPHIC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EATUR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4880" y="4941720"/>
            <a:ext cx="555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 AN ISL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121440" cy="459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89080" y="551664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ALL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5879880" cy="394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8160" y="522936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416720" cy="495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20560" y="5361120"/>
            <a:ext cx="16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842160" cy="513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18520" y="5445000"/>
            <a:ext cx="39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49320"/>
            <a:ext cx="7920000" cy="475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50520" y="5300640"/>
            <a:ext cx="288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90440" y="-4680"/>
            <a:ext cx="9524880" cy="6867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33080" y="189000"/>
            <a:ext cx="35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297000"/>
            <a:ext cx="6985080" cy="465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81800" y="5300640"/>
            <a:ext cx="195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0:16:20Z</dcterms:created>
  <dc:creator>profesor</dc:creator>
  <dc:description/>
  <dc:language>en-US</dc:language>
  <cp:lastModifiedBy>rmi</cp:lastModifiedBy>
  <dcterms:modified xsi:type="dcterms:W3CDTF">2010-02-08T12:55:12Z</dcterms:modified>
  <cp:revision>3</cp:revision>
  <dc:subject/>
  <dc:title>Diapositiva 1</dc:title>
</cp:coreProperties>
</file>